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6F11-51C9-46AC-BD8C-290270C8E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1EFD-3E30-493A-B5C7-DDE79222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A2C4-6527-43DC-BF4D-82B54110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E0CA-D022-4B57-8202-88793A79F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6E03-3510-4851-BE07-6E098D41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F42-2653-4555-AAD8-54D5ED10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F10-4C8F-4FC1-8689-40EFBE9C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F42-4529-4058-A933-AA941813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DF5-370A-4EFD-9DE8-FC2F70C2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D125-EF50-4957-9BA1-DCAC2491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085C-87E0-4097-9815-F97D2EE5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35DC-D8F3-46F0-89DD-C5074E51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7600-1C3A-4789-B3C5-93543C93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2122-388F-4C6E-B6BC-A2C6AD53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266D-CCD9-4F5B-983B-0CE663C7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FC33-4A3C-4B5A-ABAA-A04E3680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165-0C27-4878-B32F-BE5E59EC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BE99-9040-444E-BFC7-5608068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CC80-BE1D-434A-B89A-5A35274C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9646-0DE7-42E5-B60B-0EE614BE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8809-88A7-4277-8813-E47B204E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C4B5-72C0-46D8-B3C7-E42E48C2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02B-D38D-4B68-A4F1-E2AAFFE8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5E4-EA2D-4E54-8554-B09DB696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5E2-82E0-4FAB-AF61-2FF95777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895-307D-48B2-A681-D0D2E6B5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398-9A10-4604-80FF-16D6627A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FE0-ECB9-4FEB-B439-862B59E7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C9B-0029-4122-8DC0-D3136D26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6C8B-313D-41B9-BB09-100C3D3BFB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A9D4-44C2-4AFE-945F-9209B130AB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7"/>
          <p:cNvSpPr/>
          <p:nvPr/>
        </p:nvSpPr>
        <p:spPr>
          <a:xfrm>
            <a:off x="831960" y="301680"/>
            <a:ext cx="7772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Arial"/>
              </a:rPr>
              <a:t>Yr 12 IB Chemis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071720" y="3385080"/>
            <a:ext cx="289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tom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ing a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www.consumerist.com/assets/resources/2006/10/alchemical.jpg"/>
          <p:cNvPicPr/>
          <p:nvPr/>
        </p:nvPicPr>
        <p:blipFill>
          <a:blip r:embed="rId1"/>
          <a:stretch/>
        </p:blipFill>
        <p:spPr>
          <a:xfrm>
            <a:off x="4248000" y="2000160"/>
            <a:ext cx="3810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428760" y="31428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tom econo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60360" y="785880"/>
            <a:ext cx="79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 measure of the percentage of the starting materials that actually ends up in the useful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60360" y="135720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e greater the % atom economy of a reaction, the more 'efficient' or 'economic' it is likely to be, the more sustainable the reaction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60360" y="2000160"/>
            <a:ext cx="65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To calculate the atom economy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60360" y="2500200"/>
            <a:ext cx="81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Write the balanced equation for the 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60360" y="2857680"/>
            <a:ext cx="7858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2.   Calculate the total mass of the reactants for the numbers of moles in the reaction equation ; m</a:t>
            </a:r>
            <a:r>
              <a:rPr b="0" lang="en-GB" sz="16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60360" y="3500280"/>
            <a:ext cx="8001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3.   Calculate the total mass of the “desired product” for the numbers of moles in the reaction equation ; m</a:t>
            </a:r>
            <a:r>
              <a:rPr b="0" lang="en-GB" sz="16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5"/>
          <p:cNvGrpSpPr/>
          <p:nvPr/>
        </p:nvGrpSpPr>
        <p:grpSpPr>
          <a:xfrm>
            <a:off x="357120" y="3929040"/>
            <a:ext cx="4572000" cy="1303560"/>
            <a:chOff x="357120" y="3929040"/>
            <a:chExt cx="4572000" cy="1303560"/>
          </a:xfrm>
        </p:grpSpPr>
        <p:grpSp>
          <p:nvGrpSpPr>
            <p:cNvPr id="116" name="Group 13"/>
            <p:cNvGrpSpPr/>
            <p:nvPr/>
          </p:nvGrpSpPr>
          <p:grpSpPr>
            <a:xfrm>
              <a:off x="357120" y="3929040"/>
              <a:ext cx="4572000" cy="1303560"/>
              <a:chOff x="357120" y="3929040"/>
              <a:chExt cx="4572000" cy="1303560"/>
            </a:xfrm>
          </p:grpSpPr>
          <p:sp>
            <p:nvSpPr>
              <p:cNvPr id="117" name="Straight Connector 8"/>
              <p:cNvSpPr/>
              <p:nvPr/>
            </p:nvSpPr>
            <p:spPr>
              <a:xfrm>
                <a:off x="2928960" y="4577040"/>
                <a:ext cx="13572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"/>
              <p:cNvSpPr/>
              <p:nvPr/>
            </p:nvSpPr>
            <p:spPr>
              <a:xfrm>
                <a:off x="357120" y="3929040"/>
                <a:ext cx="4572000" cy="13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buClr>
                    <a:srgbClr val="0000ff"/>
                  </a:buClr>
                  <a:buSzPct val="75000"/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4.                                    m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product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 x  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m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reacta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4"/>
            <p:cNvSpPr/>
            <p:nvPr/>
          </p:nvSpPr>
          <p:spPr>
            <a:xfrm>
              <a:off x="653040" y="4419720"/>
              <a:ext cx="21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Atom economy  =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AutoShape 50">
            <a:hlinkClick r:id="" action="ppaction://hlinkshowjump?jump=nextslide"/>
          </p:cNvPr>
          <p:cNvSpPr/>
          <p:nvPr/>
        </p:nvSpPr>
        <p:spPr>
          <a:xfrm>
            <a:off x="8572680" y="2142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5183280" y="4168800"/>
            <a:ext cx="3355920" cy="252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Not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: reactions involving only the production of 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INGLE PRODUCT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ill have 100% atom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.g.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Cl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HCl  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3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N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428760" y="142920"/>
            <a:ext cx="828648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 for the production of lime (CaO) from limestone (CaCO3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aO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is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066320" y="2428920"/>
            <a:ext cx="47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0.1 + 12.0  + 3(16.0)  = 100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049400" y="3056040"/>
            <a:ext cx="375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0.1  +  16.0  =  56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017360" y="3711600"/>
            <a:ext cx="34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56.1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0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29120" y="3687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56.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428760" y="142920"/>
            <a:ext cx="828648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s for the extraction of titanium from titanium(IV) oxide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 +  2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2Mg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  +  2Mg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e overall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076400" y="3652920"/>
            <a:ext cx="692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7.9 + 2(16.0) + 12.0 + 2(2 x 35.5) + 2(24.3) = 282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042560" y="406872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7.9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019160" y="4510080"/>
            <a:ext cx="34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7.9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8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929120" y="44863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17.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Rectangle 7" descr=""/>
          <p:cNvPicPr/>
          <p:nvPr/>
        </p:nvPicPr>
        <p:blipFill>
          <a:blip r:embed="rId1"/>
          <a:stretch/>
        </p:blipFill>
        <p:spPr>
          <a:xfrm>
            <a:off x="963720" y="2968560"/>
            <a:ext cx="7107120" cy="493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000080" y="2428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mbining 2 equations for an overall equation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1000080" y="5487840"/>
            <a:ext cx="72151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low atom economy is typical of a MULTISTAG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428760" y="142920"/>
            <a:ext cx="8429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quation for the extraction of copper from copper sulphide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 +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 +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Calculate the % atom economy of the re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 If 9.60 tonnes of copper sulphide produce 4.80 tonnes of copper, calculate the % y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482760" y="2214720"/>
            <a:ext cx="75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      CuS     +      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+      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066680" y="2571840"/>
            <a:ext cx="504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(63.5 + 32.1)  +  (2 x 16)  =  127.6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042560" y="292896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63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022040" y="33368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63.5 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27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4929120" y="3336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49.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428760" y="40006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.   Theoretically, in excess oxygen, one mole CuS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one mole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874800" y="435780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(63.5 + 32.1)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857160" y="470376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5.6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874800" y="50608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/ 95.6  =  0.664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857160" y="541800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0.664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857160" y="577548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.6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9.60  x  0.664 =  6.38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2281320" y="61578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Yield Cu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3710160" y="61545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.80  x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5210280" y="60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7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6T04:31:05Z</dcterms:created>
  <dc:creator>Nico Van De Casteele</dc:creator>
  <dc:description/>
  <dc:language>en-US</dc:language>
  <cp:lastModifiedBy>Nico Van De Casteele</cp:lastModifiedBy>
  <dcterms:modified xsi:type="dcterms:W3CDTF">2016-09-16T04:32:12Z</dcterms:modified>
  <cp:revision>3</cp:revision>
  <dc:subject/>
  <dc:title>PowerPoint Presentation</dc:title>
</cp:coreProperties>
</file>